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406D-1F95-4ED3-8E04-C9EECEED0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22F2-4FC2-4F4E-A993-5DB07BBB6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01B8-DC86-4296-9617-3FB6C1EF7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BBDB-BF24-4928-B997-A1DBD7FD4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ibrary.thinkquest.org/C004535/aerobic_respir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22A9-5E8D-4E21-AB7C-6B07E5CBE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FA3E-DFDB-4B92-B9FE-2E6E9145F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34E7-D299-4CD6-8E52-54473794D10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EC5C-6A6D-4DDD-A768-3C4E022AE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www.emc.maricopa.edu/faculty/farabee/biobk/biobookglyc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B123-ED0C-4DED-A45E-57A579FF02D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1158-ECA5-4888-8291-C570B638E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DFA2-CB5E-4438-82F2-64CDACC42C0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13B8-CE6B-430D-AC8D-3D56F8F40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0512-F168-4156-BC31-25D2DA8D5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pends if oxygen is present or not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age fro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1151b.nicerweb.net/Locked/media/ch09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133B-1437-4BCB-8CA9-F0F7A61C2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itochondrial-disorder-information.com/what_is_mitochondria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02E5-9EA2-4F49-A0DE-E89F0A848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1/02/cellular-respiration-glycolysis-pyruvate-kerbs-etc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93E4-E072-4FD9-947D-1A63517FD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enzyme A is a vitamin B5 deri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A94F-B64D-4AD2-BCBE-42F3E8CB0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course1.winona.edu/kbates/Bio241/cellresp03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CBEE-9021-4CD0-9FF6-2AE991E7A20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3614-954A-44AB-A390-5B513C7D7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693C-4064-4971-9117-0CCB91E6386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3E10-E74A-459F-B771-4B01D80B4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E801-951A-478B-9068-A32AD7CB6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upload.wikimedia.org/wikipedia/en/b/b4/Citric_acid_cycle_noi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A2F-F97D-49D8-BEFD-D4B06C08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D3C4-137E-49C1-841C-EF9E5CA1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950-7688-4618-B89F-B875A032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FE36-E7C8-419F-872D-10C16EEE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F45-048A-4B4B-9933-18666339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8BC-02FA-4603-AA0C-0AFC74D5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B9E-D8D4-4D9F-91D3-24A95F24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004-6CB9-4894-BCCE-B9BF4A29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A01-06A8-4F53-96CF-0861B3A7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21A-10A7-434B-AE45-7794BDBC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BA5-DFDC-4350-A69F-E7C0B33E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FB4-05B8-4E52-B35F-8B7FFB4A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15CF-E669-4CF2-A92D-081513838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carboxylation (reactions 3 &amp; 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dox (reactions 3,4,6,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ergy production (reaction 5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kreb_cycle"/>
          <p:cNvPicPr/>
          <p:nvPr/>
        </p:nvPicPr>
        <p:blipFill>
          <a:blip r:embed="rId1"/>
          <a:stretch/>
        </p:blipFill>
        <p:spPr>
          <a:xfrm>
            <a:off x="1371600" y="609480"/>
            <a:ext cx="6400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xaloacetate is regener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ll 6 carbons from glucose have been oxidized to CO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ll of the energy from glucose is in the form of ATP, NADH and FADH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Krebs Cycle Overal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 acetyl CoA + 6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FAD + 2ADP + 2 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6 NADH + 6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FAD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AT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886200" y="3276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enyld2"/>
          <p:cNvPicPr/>
          <p:nvPr/>
        </p:nvPicPr>
        <p:blipFill>
          <a:blip r:embed="rId1"/>
          <a:stretch/>
        </p:blipFill>
        <p:spPr>
          <a:xfrm>
            <a:off x="1427040" y="1981080"/>
            <a:ext cx="6288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eaction review: http://www.science.smith.edu/departments/Biology/Bio231/kreb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&amp; Quiz: http://highered.mcgraw-hill.com/sites/0072507470/student_view0/chapter25/animation__how_the_krebs_cycle_works__quiz_1_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 of ET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f you want to go over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Transport Chain after reading about it &amp; before our lesson tomorrow, this is a short animation that might hel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olcweb/cgi/pluginpop.cgi?it=swf::535::535::/sites/dl/free/0072437316/120071/bio11.swf::Electron%20Transport%20System%20and%20ATP%20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pyruv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09_18PyruvateInCatabolism_L"/>
          <p:cNvPicPr/>
          <p:nvPr/>
        </p:nvPicPr>
        <p:blipFill>
          <a:blip r:embed="rId1"/>
          <a:stretch/>
        </p:blipFill>
        <p:spPr>
          <a:xfrm>
            <a:off x="2371680" y="1981080"/>
            <a:ext cx="4398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xygen is present, the pyruvate molecules are transported from the cytoplasm into the mitochondrial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mitochondria"/>
          <p:cNvPicPr/>
          <p:nvPr/>
        </p:nvPicPr>
        <p:blipFill>
          <a:blip r:embed="rId1"/>
          <a:stretch/>
        </p:blipFill>
        <p:spPr>
          <a:xfrm>
            <a:off x="4648320" y="2087640"/>
            <a:ext cx="380988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yruvate-oxidation"/>
          <p:cNvPicPr/>
          <p:nvPr/>
        </p:nvPicPr>
        <p:blipFill>
          <a:blip r:embed="rId1"/>
          <a:stretch/>
        </p:blipFill>
        <p:spPr>
          <a:xfrm>
            <a:off x="812880" y="1981080"/>
            <a:ext cx="751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mitochondrial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enzyme-catalyzed chan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decarboxyl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attachment of coenzyme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biology200.gsu.edu/houghton/2107%20'07/Figures/Chapter7/figure7.8.jpg"/>
          <p:cNvPicPr/>
          <p:nvPr/>
        </p:nvPicPr>
        <p:blipFill>
          <a:blip r:embed="rId1"/>
          <a:stretch/>
        </p:blipFill>
        <p:spPr>
          <a:xfrm>
            <a:off x="785880" y="1643040"/>
            <a:ext cx="73184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Also known as the Krebs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8 enzyme-catalyzed re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tochondrial matri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aerob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cyclic: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xaloaceta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reactant of the first reaction and product of the last re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itric_acid_cycle_noi"/>
          <p:cNvPicPr/>
          <p:nvPr/>
        </p:nvPicPr>
        <p:blipFill>
          <a:blip r:embed="rId1"/>
          <a:stretch/>
        </p:blipFill>
        <p:spPr>
          <a:xfrm>
            <a:off x="1123920" y="609480"/>
            <a:ext cx="6896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5:17:26Z</dcterms:created>
  <dc:creator>rubina khan</dc:creator>
  <dc:description/>
  <dc:language>en-US</dc:language>
  <cp:lastModifiedBy>rubina khan</cp:lastModifiedBy>
  <dcterms:modified xsi:type="dcterms:W3CDTF">2017-05-31T13:45:02Z</dcterms:modified>
  <cp:revision>70</cp:revision>
  <dc:subject/>
  <dc:title>Aerobic Cellular Respiration</dc:title>
</cp:coreProperties>
</file>